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5.png" ContentType="image/png"/>
  <Override PartName="/ppt/media/image16.jpeg" ContentType="image/jpe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D6948-95E9-405D-9D09-24513ABECC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D25B5B6-659E-4A41-BD94-2EDBD21D2D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7560911-F5C1-46AD-B8F3-B3AD7CDBC5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D341760-3EB4-4631-BBF8-1872BA9767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20B94B-4A05-4D52-8FBA-AE4F5FB37D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E4910A-DE19-488D-9D5C-F1E9229651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35BDAF4-6F9B-40EB-9AC8-FCA1BF9E92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5162AB9-089B-4F52-9117-0AAA63DF08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0380926-4D31-4EE6-8624-DA7BFA7126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9975CE9-E731-46C6-95D4-9BC137455C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6F438A-6531-4141-BE2B-C56BE3073E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C0BEEB7-A378-41FE-873D-3129435231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8D5518-B3C0-4114-A31A-3D7910458B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C23436-EDA2-4F8B-AD02-557C7713A9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D6D9BB8-D995-4F04-A9EC-67A28F10C1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B369277-8239-4464-84B0-FC37FBB438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EE2FD11-C0C5-493F-94E3-BCBE4380E5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22D1371-81E8-45AB-9FE1-CE81E3E9D5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8085B8F-5B05-4F62-85F2-FB40ED9C6A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C2582C5D-7F44-4C0C-A271-A1488BA4E3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2F4FB02-2702-4A81-870D-8007F7EBFD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D3FCE2-0ECF-4723-A6D3-496C225344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B9F38D-F3B0-4FF8-9491-71357A7172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B02CD19-56C9-46FA-8A52-6090F4037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E48FF-613F-4DC8-B25B-3BAA3E63F8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 name="Picture 6" descr="wmo2016_powerpoint_standard_v2-2.jpg"/>
          <p:cNvPicPr/>
          <p:nvPr/>
        </p:nvPicPr>
        <p:blipFill>
          <a:blip r:embed="rId2"/>
          <a:stretch/>
        </p:blipFill>
        <p:spPr>
          <a:xfrm>
            <a:off x="0" y="5151600"/>
            <a:ext cx="1989000" cy="171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wmo2016_powerpoint_standard_v2-2.jpg"/>
          <p:cNvPicPr/>
          <p:nvPr/>
        </p:nvPicPr>
        <p:blipFill>
          <a:blip r:embed="rId2"/>
          <a:stretch/>
        </p:blipFill>
        <p:spPr>
          <a:xfrm>
            <a:off x="0" y="5151600"/>
            <a:ext cx="1989000" cy="1714320"/>
          </a:xfrm>
          <a:prstGeom prst="rect">
            <a:avLst/>
          </a:prstGeom>
          <a:ln w="0">
            <a:noFill/>
          </a:ln>
        </p:spPr>
      </p:pic>
      <p:pic>
        <p:nvPicPr>
          <p:cNvPr id="41" name="Picture 6" descr="wmo2016_powerpoint_standard_v2-2.jpg"/>
          <p:cNvPicPr/>
          <p:nvPr/>
        </p:nvPicPr>
        <p:blipFill>
          <a:blip r:embed="rId3"/>
          <a:stretch/>
        </p:blipFill>
        <p:spPr>
          <a:xfrm>
            <a:off x="0" y="5151600"/>
            <a:ext cx="1989000" cy="1714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75994-59BC-4ED0-9399-513BF407A5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wmo2016_powerpoint_standard_v2-1.jpg"/>
          <p:cNvPicPr/>
          <p:nvPr/>
        </p:nvPicPr>
        <p:blipFill>
          <a:blip r:embed="rId1"/>
          <a:stretch/>
        </p:blipFill>
        <p:spPr>
          <a:xfrm>
            <a:off x="0" y="228600"/>
            <a:ext cx="9215280" cy="6912000"/>
          </a:xfrm>
          <a:prstGeom prst="rect">
            <a:avLst/>
          </a:prstGeom>
          <a:ln w="0">
            <a:noFill/>
          </a:ln>
        </p:spPr>
      </p:pic>
      <p:sp>
        <p:nvSpPr>
          <p:cNvPr id="82" name="TextBox 5"/>
          <p:cNvSpPr/>
          <p:nvPr/>
        </p:nvSpPr>
        <p:spPr>
          <a:xfrm>
            <a:off x="4970520" y="5899320"/>
            <a:ext cx="4173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90"/>
                </a:solidFill>
                <a:latin typeface="Calibri"/>
              </a:rPr>
              <a:t>Atelier OSCAR/Surface </a:t>
            </a:r>
            <a:br>
              <a:rPr sz="2000"/>
            </a:br>
            <a:r>
              <a:rPr b="0" lang="de-DE" sz="2000" spc="-1" strike="noStrike">
                <a:solidFill>
                  <a:srgbClr val="000090"/>
                </a:solidFill>
                <a:latin typeface="Calibri"/>
              </a:rPr>
              <a:t>Dakar/Senegal</a:t>
            </a:r>
            <a:endParaRPr b="0" lang="en-US" sz="2000" spc="-1" strike="noStrike">
              <a:solidFill>
                <a:srgbClr val="000000"/>
              </a:solidFill>
              <a:latin typeface="Arial"/>
            </a:endParaRPr>
          </a:p>
        </p:txBody>
      </p:sp>
      <p:sp>
        <p:nvSpPr>
          <p:cNvPr id="83" name="Shape 231"/>
          <p:cNvSpPr/>
          <p:nvPr/>
        </p:nvSpPr>
        <p:spPr>
          <a:xfrm>
            <a:off x="1647720" y="2149560"/>
            <a:ext cx="612468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90"/>
                </a:solidFill>
                <a:latin typeface="Arial"/>
              </a:rPr>
              <a:t>GUINÉE-BISSAU</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90"/>
                </a:solidFill>
                <a:latin typeface="Calibri"/>
              </a:rPr>
              <a:t> </a:t>
            </a:r>
            <a:endParaRPr b="0" lang="en-US" sz="1000" spc="-1" strike="noStrike">
              <a:solidFill>
                <a:srgbClr val="000000"/>
              </a:solidFill>
              <a:latin typeface="Arial"/>
            </a:endParaRPr>
          </a:p>
        </p:txBody>
      </p:sp>
      <p:sp>
        <p:nvSpPr>
          <p:cNvPr id="84" name="TextBox 2"/>
          <p:cNvSpPr/>
          <p:nvPr/>
        </p:nvSpPr>
        <p:spPr>
          <a:xfrm>
            <a:off x="1489680" y="3006720"/>
            <a:ext cx="626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11993"/>
                </a:solidFill>
                <a:latin typeface="Calibri"/>
                <a:ea typeface="Arial"/>
              </a:rPr>
              <a:t>Elaboré par: Mr. Cherno Luis Mendes</a:t>
            </a:r>
            <a:endParaRPr b="0" lang="en-US" sz="3200" spc="-1" strike="noStrike">
              <a:solidFill>
                <a:srgbClr val="000000"/>
              </a:solidFill>
              <a:latin typeface="Arial"/>
            </a:endParaRPr>
          </a:p>
        </p:txBody>
      </p:sp>
      <p:sp>
        <p:nvSpPr>
          <p:cNvPr id="85" name="Rectângulo 5"/>
          <p:cNvSpPr/>
          <p:nvPr/>
        </p:nvSpPr>
        <p:spPr>
          <a:xfrm>
            <a:off x="2767680" y="1325520"/>
            <a:ext cx="440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3200" spc="-1" strike="noStrike">
                <a:solidFill>
                  <a:srgbClr val="000000"/>
                </a:solidFill>
                <a:latin typeface="Arial"/>
              </a:rPr>
              <a:t>Atelier OSCAR/Surface</a:t>
            </a:r>
            <a:endParaRPr b="0" lang="en-US" sz="3200" spc="-1" strike="noStrike">
              <a:solidFill>
                <a:srgbClr val="000000"/>
              </a:solidFill>
              <a:latin typeface="Arial"/>
            </a:endParaRPr>
          </a:p>
        </p:txBody>
      </p:sp>
      <p:sp>
        <p:nvSpPr>
          <p:cNvPr id="86" name="Rectângulo 7"/>
          <p:cNvSpPr/>
          <p:nvPr/>
        </p:nvSpPr>
        <p:spPr>
          <a:xfrm>
            <a:off x="2746440" y="4038480"/>
            <a:ext cx="404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Dakar/Sénég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9-11 April 2019</a:t>
            </a:r>
            <a:endParaRPr b="0" lang="en-US" sz="1800" spc="-1" strike="noStrike">
              <a:solidFill>
                <a:srgbClr val="000000"/>
              </a:solidFill>
              <a:latin typeface="Arial"/>
            </a:endParaRPr>
          </a:p>
        </p:txBody>
      </p:sp>
      <p:pic>
        <p:nvPicPr>
          <p:cNvPr id="87" name="Imagem 1" descr="C:\Documents and Settings\malan da silva\Os meus documentos\As minhas imagens\LOGO_INMGB\LOGO_INMGB.jpg"/>
          <p:cNvPicPr/>
          <p:nvPr/>
        </p:nvPicPr>
        <p:blipFill>
          <a:blip r:embed="rId2"/>
          <a:srcRect l="19479" t="33676" r="28709" b="29636"/>
          <a:stretch/>
        </p:blipFill>
        <p:spPr>
          <a:xfrm>
            <a:off x="784080" y="343080"/>
            <a:ext cx="1235160" cy="1114200"/>
          </a:xfrm>
          <a:prstGeom prst="rect">
            <a:avLst/>
          </a:prstGeom>
          <a:ln w="0">
            <a:noFill/>
          </a:ln>
        </p:spPr>
      </p:pic>
      <p:pic>
        <p:nvPicPr>
          <p:cNvPr id="88" name="Image 6" descr="omm.jpg"/>
          <p:cNvPicPr/>
          <p:nvPr/>
        </p:nvPicPr>
        <p:blipFill>
          <a:blip r:embed="rId3"/>
          <a:stretch/>
        </p:blipFill>
        <p:spPr>
          <a:xfrm>
            <a:off x="7353360" y="343080"/>
            <a:ext cx="1162080" cy="111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3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 </a:t>
            </a:r>
            <a:r>
              <a:rPr b="1" lang="fr-FR" sz="2400" spc="-1" strike="noStrike">
                <a:solidFill>
                  <a:srgbClr val="000000"/>
                </a:solidFill>
                <a:latin typeface="Arial"/>
                <a:ea typeface="Arial"/>
              </a:rPr>
              <a:t>IV. RESSOURCES HUMAINE</a:t>
            </a:r>
            <a:endParaRPr b="0" lang="en-US" sz="2400" spc="-1" strike="noStrike">
              <a:solidFill>
                <a:srgbClr val="000000"/>
              </a:solidFill>
              <a:latin typeface="Calibri"/>
            </a:endParaRPr>
          </a:p>
        </p:txBody>
      </p:sp>
      <p:pic>
        <p:nvPicPr>
          <p:cNvPr id="112" name="Picture 4" descr=""/>
          <p:cNvPicPr/>
          <p:nvPr/>
        </p:nvPicPr>
        <p:blipFill>
          <a:blip r:embed="rId1"/>
          <a:stretch/>
        </p:blipFill>
        <p:spPr>
          <a:xfrm>
            <a:off x="928800" y="1257480"/>
            <a:ext cx="72864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Arial"/>
                <a:ea typeface="Arial"/>
              </a:rPr>
              <a:t>PRINCIPAUX  VARIABLES OBSERVÉES</a:t>
            </a:r>
            <a:endParaRPr b="0" lang="en-US" sz="1800" spc="-1" strike="noStrike">
              <a:solidFill>
                <a:srgbClr val="000000"/>
              </a:solidFill>
              <a:latin typeface="Calibri"/>
            </a:endParaRPr>
          </a:p>
        </p:txBody>
      </p:sp>
      <p:sp>
        <p:nvSpPr>
          <p:cNvPr id="114" name=""/>
          <p:cNvSpPr txBox="1"/>
          <p:nvPr/>
        </p:nvSpPr>
        <p:spPr>
          <a:xfrm>
            <a:off x="457200" y="1152000"/>
            <a:ext cx="8229600" cy="452628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s températures (maxi et mini) sous-abri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ession atmosphériqu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vent à deux (2) mètr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écipit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Humidité relative</a:t>
            </a:r>
            <a:r>
              <a:rPr b="0" lang="fr-FR"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pt-PT" sz="2400" spc="-1" strike="noStrike">
                <a:solidFill>
                  <a:srgbClr val="000000"/>
                </a:solidFill>
                <a:latin typeface="Arial"/>
                <a:ea typeface="Arial"/>
              </a:rPr>
              <a:t>VI.  </a:t>
            </a:r>
            <a:r>
              <a:rPr b="1" lang="fr-FR" sz="1800" spc="-1" strike="noStrike">
                <a:solidFill>
                  <a:srgbClr val="000000"/>
                </a:solidFill>
                <a:latin typeface="Arial"/>
                <a:ea typeface="Arial"/>
              </a:rPr>
              <a:t>INVENTAIRE DES CAPACITÉS D'OBSERVATION NATIONALES ACTUELLES</a:t>
            </a:r>
            <a:br>
              <a:rPr sz="1800"/>
            </a:br>
            <a:endParaRPr b="0" lang="en-US" sz="1800" spc="-1" strike="noStrike">
              <a:solidFill>
                <a:srgbClr val="000000"/>
              </a:solidFill>
              <a:latin typeface="Calibri"/>
            </a:endParaRPr>
          </a:p>
        </p:txBody>
      </p:sp>
      <p:sp>
        <p:nvSpPr>
          <p:cNvPr id="116" name=""/>
          <p:cNvSpPr txBox="1"/>
          <p:nvPr/>
        </p:nvSpPr>
        <p:spPr>
          <a:xfrm>
            <a:off x="457200" y="1114560"/>
            <a:ext cx="8229600" cy="5124240"/>
          </a:xfrm>
          <a:prstGeom prst="rect">
            <a:avLst/>
          </a:prstGeom>
          <a:noFill/>
          <a:ln w="0">
            <a:noFill/>
          </a:ln>
        </p:spPr>
        <p:txBody>
          <a:bodyPr anchor="t">
            <a:normAutofit/>
          </a:bodyPr>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r>
              <a:rPr b="0" lang="fr-FR" sz="1600" spc="-1" strike="noStrike">
                <a:solidFill>
                  <a:srgbClr val="000000"/>
                </a:solidFill>
                <a:latin typeface="Arial"/>
                <a:ea typeface="Arial"/>
              </a:rPr>
              <a:t>Pour accomplir ses missions, l’Institut National de la Météorologie (INM) s’appuie sur un  réseau de stations d’observation et de mesure comprenan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ept (7) stations synoptiques, dont trois fonctionnelles. Ces stations participent à la Veille Météorologique Mondiale (VMM) par l’observation permanente et l’échange des données météorologiques toutes les trois heures.</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ix (06) stations Agrométéorologiques  qui sont toutes à l’arrêt ; et</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Quarante (40) postes pluviométriques dont seulement Dix-huit (18) sont fonctionnels.</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Les postes pluviométriques sont gérés par des agents bénévoles à qui l’INM verse des indemnités  celui-ci à constitue  un problème  par l’INM</a:t>
            </a:r>
            <a:r>
              <a:rPr b="0" lang="pt-PT" sz="1600" spc="-1" strike="noStrike">
                <a:solidFill>
                  <a:srgbClr val="000000"/>
                </a:solidFill>
                <a:latin typeface="Arial"/>
                <a:ea typeface="Arial"/>
              </a:rPr>
              <a:t>.</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Concernant les observations en altitude, elles ne sont pas pratiquées en Guinée Bissau. Cette situation est très dangereuse au regard de l’importance que ces observations représentent pour les prévisions générales et la protection météorologique des vols et des aéronef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973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Arial"/>
                <a:ea typeface="Arial"/>
              </a:rPr>
              <a:t>LA CARTE DU RESEAU METEOROLOGIQUE OPTIMAL</a:t>
            </a:r>
            <a:endParaRPr b="0" lang="en-US" sz="2000" spc="-1" strike="noStrike">
              <a:solidFill>
                <a:srgbClr val="000000"/>
              </a:solidFill>
              <a:latin typeface="Calibri"/>
            </a:endParaRPr>
          </a:p>
        </p:txBody>
      </p:sp>
      <p:pic>
        <p:nvPicPr>
          <p:cNvPr id="118" name="Picture 2" descr=""/>
          <p:cNvPicPr/>
          <p:nvPr/>
        </p:nvPicPr>
        <p:blipFill>
          <a:blip r:embed="rId1"/>
          <a:stretch/>
        </p:blipFill>
        <p:spPr>
          <a:xfrm>
            <a:off x="1031760" y="1400040"/>
            <a:ext cx="6902640" cy="432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11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LA CARTE DU RESEAU METEOROLOGIQUE OPERATIONNEL</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1614600" y="1266840"/>
            <a:ext cx="6681600" cy="45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42920" y="152280"/>
          <a:ext cx="8867880" cy="59436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Bissau-Observatoir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6‘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Bissau-Aéropor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0‘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9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Horair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8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olam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º 6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8‘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ynoptique et climatologique  Principale en même temp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142920" y="152280"/>
          <a:ext cx="8867880" cy="64008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ffffff"/>
                          </a:solidFill>
                          <a:latin typeface="Calibri"/>
                        </a:rPr>
                        <a: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Arial"/>
                        </a:rPr>
                        <a:t>Baf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 º 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4º 67‘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43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Gabu</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º 2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23</a:t>
                      </a:r>
                      <a:r>
                        <a:rPr b="0" lang="fr-FR" sz="1000" spc="-1" strike="noStrike">
                          <a:solidFill>
                            <a:srgbClr val="000000"/>
                          </a:solidFill>
                          <a:latin typeface="Arial"/>
                        </a:rPr>
                        <a:t>‘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35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Qunhamel</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li</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boxanqu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l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ssor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ntubue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8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36´</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23´</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3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86´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0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3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73`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5´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58´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3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empératures, humidité, vent à 10m, précipitation,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Evaporation pich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Non operationnell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57200" y="923760"/>
          <a:ext cx="7534440" cy="4749840"/>
        </p:xfrm>
        <a:graphic>
          <a:graphicData uri="http://schemas.openxmlformats.org/drawingml/2006/table">
            <a:tbl>
              <a:tblPr/>
              <a:tblGrid>
                <a:gridCol w="331920"/>
                <a:gridCol w="1293840"/>
                <a:gridCol w="1618920"/>
                <a:gridCol w="1189080"/>
                <a:gridCol w="927360"/>
                <a:gridCol w="987120"/>
                <a:gridCol w="1186200"/>
              </a:tblGrid>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edan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5">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200" spc="-1" strike="noStrike">
                          <a:solidFill>
                            <a:srgbClr val="000000"/>
                          </a:solidFill>
                          <a:latin typeface="Arial"/>
                          <a:ea typeface="Times New Roman"/>
                        </a:rPr>
                        <a:t>LES POSTES PLUVIOMÉTRIQUES</a:t>
                      </a:r>
                      <a:endParaRPr b="0" lang="en-US" sz="12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gen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i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8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tió</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2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lequiss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6 </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cheu</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26</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16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Empa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5</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 </a:t>
                      </a:r>
                      <a:r>
                        <a:rPr b="0" lang="pt-PT" sz="1000" spc="-1" strike="noStrike">
                          <a:solidFill>
                            <a:srgbClr val="000000"/>
                          </a:solidFill>
                          <a:latin typeface="Arial"/>
                          <a:ea typeface="Times New Roman"/>
                        </a:rPr>
                        <a:t>-15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o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abá</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1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Nhacr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97</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itch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2</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9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orto-G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9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Queb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7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Ti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40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onac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4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re-Bac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5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ltinh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6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Xit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mbadinc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ssasse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45 </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n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chil</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0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468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unti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5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nquelif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54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Djolme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0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4" name="CaixaDeTexto 5"/>
          <p:cNvSpPr/>
          <p:nvPr/>
        </p:nvSpPr>
        <p:spPr>
          <a:xfrm>
            <a:off x="457200" y="263520"/>
            <a:ext cx="7534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Arial"/>
              </a:rPr>
              <a:t>LES POSTES PLUVIOMETRIQUES OPERATIONNELLES ET NON OPERATIONNEL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CONTº</a:t>
            </a:r>
            <a:endParaRPr b="0" lang="en-US" sz="2800" spc="-1" strike="noStrike">
              <a:solidFill>
                <a:srgbClr val="000000"/>
              </a:solidFill>
              <a:latin typeface="Calibri"/>
            </a:endParaRPr>
          </a:p>
        </p:txBody>
      </p:sp>
      <p:graphicFrame>
        <p:nvGraphicFramePr>
          <p:cNvPr id="126" name=""/>
          <p:cNvGraphicFramePr/>
          <p:nvPr/>
        </p:nvGraphicFramePr>
        <p:xfrm>
          <a:off x="723960" y="1457280"/>
          <a:ext cx="7791480" cy="3417840"/>
        </p:xfrm>
        <a:graphic>
          <a:graphicData uri="http://schemas.openxmlformats.org/drawingml/2006/table">
            <a:tbl>
              <a:tblPr/>
              <a:tblGrid>
                <a:gridCol w="303120"/>
                <a:gridCol w="1096920"/>
                <a:gridCol w="1569960"/>
                <a:gridCol w="998640"/>
                <a:gridCol w="979560"/>
                <a:gridCol w="979560"/>
                <a:gridCol w="904680"/>
                <a:gridCol w="959040"/>
              </a:tblGrid>
              <a:tr h="335160">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º</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OM</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STATIO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TYP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CÓDIGO DE AGRHYMET</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A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OG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L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H)</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ESTADO</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CTUAL</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jonquit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rowSpan="16">
                  <a:txBody>
                    <a:bodyPr lIns="43920" rIns="439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ES POSTES PLUVIOMETRIQUES</a:t>
                      </a:r>
                      <a:endParaRPr b="0" lang="en-US" sz="11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5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76'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ulacund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7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1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nadu</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Nhal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8‘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eciss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 Domingo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2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i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36‘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1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9‘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0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rmos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ueledj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lomar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9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61‘ W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s Galinha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4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 de Com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7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0‘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2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rabi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afim</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37‘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Un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520"/>
            <a:ext cx="8229600" cy="628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Arial"/>
                <a:ea typeface="Arial"/>
              </a:rPr>
              <a:t>VII. REMARQUES</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Le pays ne dispose des  stations suivant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aute altitude / radiosond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adars météorologiques ; au niveau de l’ASECNA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éseaux de détection de la foudre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ydrologiques toutes non opérationnell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maritim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Composition atmosphérique et autres station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 INTRODUCTION</a:t>
            </a:r>
            <a:endParaRPr b="0" lang="en-US" sz="2800" spc="-1" strike="noStrike">
              <a:solidFill>
                <a:srgbClr val="000000"/>
              </a:solidFill>
              <a:latin typeface="Calibri"/>
            </a:endParaRPr>
          </a:p>
        </p:txBody>
      </p:sp>
      <p:sp>
        <p:nvSpPr>
          <p:cNvPr id="90" name=""/>
          <p:cNvSpPr txBox="1"/>
          <p:nvPr/>
        </p:nvSpPr>
        <p:spPr>
          <a:xfrm>
            <a:off x="457200" y="905040"/>
            <a:ext cx="8229600" cy="533376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Guinée-Bissau s’étend sur une superficie de 36.125 Km2 avec une population environ de 1.600.000 hab.  et se situé sur la côte Ouest Africaine, entre les latitudes  de 10º à 13º N; et entre les méridiens 13 et 17º W de longitude. Le pays comporte une partie insulaire formée par l’archipel de Bijagós avec plusieurs illes (environ 80) dont 20 seulement sont habités et une partie continental. La Guinée-Bissau est limitée par le Sénégal au Nord et par la république de la Guinée-Conakry à L’est et Sud.  </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ays comporte huit (8) régions Administratives à savoir: Biombo, Cacheu, Oio, Bafatá, Gabu, Tombali, Quinará et Bolama. C’est un pays essentiellement agricole, le secteur agricole dans le sens le plus large (Agriculture, Elevage et la Pêche) représente plus de deux-tiers de la production national et tous les efforts sont orientés vers la sécurités alimentaire. Cette importante branche d’activités économiques, représente 66 % du PIB et emploi environ 80% de la population active.</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limat du pays est caractérisé par un climat chaud et humide à deux saison: une saison des pluies, allant de Juin  à Octobre et une saison sèche allant du Décembre à Avril. Les mois de Mai et Novembre sont considérés comme mois de transition entre les saisons. La totale pluviométrie annuelle du pays varie entre 1000 à 1.500mm au nord et  1.500 à 2.500 mm au sud.</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mo2016_powerpoint_standard_v2.jpg"/>
          <p:cNvPicPr/>
          <p:nvPr/>
        </p:nvPicPr>
        <p:blipFill>
          <a:blip r:embed="rId1"/>
          <a:stretch/>
        </p:blipFill>
        <p:spPr>
          <a:xfrm>
            <a:off x="0" y="-54000"/>
            <a:ext cx="9144000" cy="6858000"/>
          </a:xfrm>
          <a:prstGeom prst="rect">
            <a:avLst/>
          </a:prstGeom>
          <a:ln w="0">
            <a:noFill/>
          </a:ln>
        </p:spPr>
      </p:pic>
      <p:sp>
        <p:nvSpPr>
          <p:cNvPr id="130" name="Title 1"/>
          <p:cNvSpPr/>
          <p:nvPr/>
        </p:nvSpPr>
        <p:spPr>
          <a:xfrm>
            <a:off x="762120" y="2001960"/>
            <a:ext cx="7924680" cy="18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90"/>
                </a:solidFill>
                <a:latin typeface="Calibri"/>
              </a:rPr>
              <a:t>MERCI DE VOTRE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620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I. </a:t>
            </a:r>
            <a:r>
              <a:rPr b="0" lang="fr-FR" sz="2800" spc="-1" strike="noStrike">
                <a:solidFill>
                  <a:srgbClr val="000000"/>
                </a:solidFill>
                <a:latin typeface="Arial"/>
                <a:ea typeface="Arial"/>
              </a:rPr>
              <a:t>Contexte physique du pays</a:t>
            </a:r>
            <a:br>
              <a:rPr sz="1800"/>
            </a:br>
            <a:endParaRPr b="0" lang="en-US" sz="2800" spc="-1" strike="noStrike">
              <a:solidFill>
                <a:srgbClr val="000000"/>
              </a:solidFill>
              <a:latin typeface="Calibri"/>
            </a:endParaRPr>
          </a:p>
        </p:txBody>
      </p:sp>
      <p:sp>
        <p:nvSpPr>
          <p:cNvPr id="92" name=""/>
          <p:cNvSpPr txBox="1"/>
          <p:nvPr/>
        </p:nvSpPr>
        <p:spPr>
          <a:xfrm>
            <a:off x="457200" y="895320"/>
            <a:ext cx="8229600" cy="523080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littoral Bissau-guinéen est caractérisé par une interpénétration entre la terre et la mer. Cette interpénétration exprime par l’existence d’une uni  coutière de faible  déclination,   qu’en direction Est passe progressivement par les relèves de faible ondulation à de plateau  intérieur; en direction Ouest prolonge sous forme d’une vaste plateforme que s’étend par les centaines de  Km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zone littorale, est interpénétration beaucoup plus accentué par l’existence de réseau complexes de rivières, les marais colonisé par une vaste forêt de mangrove. La  caractéristique de faible décline des plateaux coutières, permet la rentre de la marée jusqu’à 100 Km à l’intérieur du pay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a:ea typeface="Arial"/>
              </a:rPr>
              <a:t>Le plateforme continental Bissau-guinéen offre une grande diversités de formes</a:t>
            </a:r>
            <a:r>
              <a:rPr b="0" lang="fr-FR" sz="1400" spc="-1" strike="noStrike">
                <a:solidFill>
                  <a:srgbClr val="000000"/>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endParaRPr b="0" lang="en-US" sz="14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lateau de Bafatá, qui englobe les cours inferieurs du rivière  Geba  et du Corubal;</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de Gabú,  caractérisé par les ondulations doux et réseau hydrographique  moyen point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collines de Boé, sont formés par les contra forces occidentaux de massif  Futa Djalon, s’étend par la zone Corubal et passe graduellement au plateau de Gab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littoral, est d’origine fluviomarine avec les dépôts  sablonneuse  formé par les méandres des plusieurs  rivières et ses multiples bras, où les marées s’élargit à à haute mer;</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ays compte avec  Sept (7) grands rivières qui prennent naissance au niveau de la mer  jusqu’à l’intérieur du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ays.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LA ZONE COUTIERE FORET DE MANGROVE</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457200" y="998640"/>
            <a:ext cx="4200480" cy="2859120"/>
          </a:xfrm>
          <a:prstGeom prst="rect">
            <a:avLst/>
          </a:prstGeom>
          <a:ln w="0">
            <a:noFill/>
          </a:ln>
        </p:spPr>
      </p:pic>
      <p:pic>
        <p:nvPicPr>
          <p:cNvPr id="95" name="Imagem 9" descr="C:\Users\IBAP-3\Desktop\PROVISÓRIO\Uagadougou\Dossier Images\Image 10.jpg"/>
          <p:cNvPicPr/>
          <p:nvPr/>
        </p:nvPicPr>
        <p:blipFill>
          <a:blip r:embed="rId2"/>
          <a:stretch/>
        </p:blipFill>
        <p:spPr>
          <a:xfrm>
            <a:off x="4797360" y="1114560"/>
            <a:ext cx="3697200" cy="2743200"/>
          </a:xfrm>
          <a:prstGeom prst="rect">
            <a:avLst/>
          </a:prstGeom>
          <a:ln w="0">
            <a:noFill/>
          </a:ln>
        </p:spPr>
      </p:pic>
      <p:pic>
        <p:nvPicPr>
          <p:cNvPr id="96" name="Image 5" descr=""/>
          <p:cNvPicPr/>
          <p:nvPr/>
        </p:nvPicPr>
        <p:blipFill>
          <a:blip r:embed="rId3"/>
          <a:srcRect l="0" t="32111" r="0" b="32111"/>
          <a:stretch/>
        </p:blipFill>
        <p:spPr>
          <a:xfrm>
            <a:off x="457200" y="3941640"/>
            <a:ext cx="4086360" cy="2271960"/>
          </a:xfrm>
          <a:prstGeom prst="rect">
            <a:avLst/>
          </a:prstGeom>
          <a:ln w="0">
            <a:noFill/>
          </a:ln>
        </p:spPr>
      </p:pic>
      <p:pic>
        <p:nvPicPr>
          <p:cNvPr id="97" name="Imagem 9" descr="enHaut-R0080369.jpg"/>
          <p:cNvPicPr/>
          <p:nvPr/>
        </p:nvPicPr>
        <p:blipFill>
          <a:blip r:embed="rId4"/>
          <a:stretch/>
        </p:blipFill>
        <p:spPr>
          <a:xfrm>
            <a:off x="4797360" y="3941640"/>
            <a:ext cx="3697200" cy="23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34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ZONE DE RESERVEE NATURELLE: LAC CUFADA</a:t>
            </a:r>
            <a:endParaRPr b="0" lang="en-US" sz="2400" spc="-1" strike="noStrike">
              <a:solidFill>
                <a:srgbClr val="000000"/>
              </a:solidFill>
              <a:latin typeface="Calibri"/>
            </a:endParaRPr>
          </a:p>
        </p:txBody>
      </p:sp>
      <p:pic>
        <p:nvPicPr>
          <p:cNvPr id="99" name="Picture 3" descr=""/>
          <p:cNvPicPr/>
          <p:nvPr/>
        </p:nvPicPr>
        <p:blipFill>
          <a:blip r:embed="rId1"/>
          <a:stretch/>
        </p:blipFill>
        <p:spPr>
          <a:xfrm>
            <a:off x="4762440" y="1695600"/>
            <a:ext cx="4172040" cy="3238200"/>
          </a:xfrm>
          <a:prstGeom prst="rect">
            <a:avLst/>
          </a:prstGeom>
          <a:ln w="0">
            <a:noFill/>
          </a:ln>
        </p:spPr>
      </p:pic>
      <p:pic>
        <p:nvPicPr>
          <p:cNvPr id="100" name="Picture 2" descr=""/>
          <p:cNvPicPr/>
          <p:nvPr/>
        </p:nvPicPr>
        <p:blipFill>
          <a:blip r:embed="rId2"/>
          <a:stretch/>
        </p:blipFill>
        <p:spPr>
          <a:xfrm>
            <a:off x="318960" y="1581120"/>
            <a:ext cx="4281480" cy="3352680"/>
          </a:xfrm>
          <a:prstGeom prst="rect">
            <a:avLst/>
          </a:prstGeom>
          <a:ln w="0">
            <a:noFill/>
          </a:ln>
        </p:spPr>
      </p:pic>
      <p:sp>
        <p:nvSpPr>
          <p:cNvPr id="101" name="CaixaDeTexto 6"/>
          <p:cNvSpPr/>
          <p:nvPr/>
        </p:nvSpPr>
        <p:spPr>
          <a:xfrm>
            <a:off x="1990800" y="517680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Zone de réserve: Parc national de lac Cuf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A ZONE DE PATURAGE</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247680" y="1952640"/>
            <a:ext cx="4430520" cy="2859120"/>
          </a:xfrm>
          <a:prstGeom prst="rect">
            <a:avLst/>
          </a:prstGeom>
          <a:ln w="0">
            <a:noFill/>
          </a:ln>
        </p:spPr>
      </p:pic>
      <p:pic>
        <p:nvPicPr>
          <p:cNvPr id="104" name="Picture 3" descr="C:\Users\Ediana Dias Gomes\Desktop\RAMSAR.jpg"/>
          <p:cNvPicPr/>
          <p:nvPr/>
        </p:nvPicPr>
        <p:blipFill>
          <a:blip r:embed="rId2"/>
          <a:stretch/>
        </p:blipFill>
        <p:spPr>
          <a:xfrm>
            <a:off x="4905360" y="1952640"/>
            <a:ext cx="4046400" cy="28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Arial"/>
                <a:ea typeface="Arial"/>
              </a:rPr>
              <a:t>III. ETAT DE L’INSTITUT NATIONAL (INM)</a:t>
            </a:r>
            <a:endParaRPr b="0" lang="en-US" sz="2000" spc="-1" strike="noStrike">
              <a:solidFill>
                <a:srgbClr val="000000"/>
              </a:solidFill>
              <a:latin typeface="Calibri"/>
            </a:endParaRPr>
          </a:p>
        </p:txBody>
      </p:sp>
      <p:sp>
        <p:nvSpPr>
          <p:cNvPr id="106" name=""/>
          <p:cNvSpPr txBox="1"/>
          <p:nvPr/>
        </p:nvSpPr>
        <p:spPr>
          <a:xfrm>
            <a:off x="457200" y="1018800"/>
            <a:ext cx="8229600" cy="4707000"/>
          </a:xfrm>
          <a:prstGeom prst="rect">
            <a:avLst/>
          </a:prstGeom>
          <a:noFill/>
          <a:ln w="0">
            <a:noFill/>
          </a:ln>
        </p:spPr>
        <p:txBody>
          <a:bodyPr anchor="t">
            <a:normAutofit/>
          </a:bodyPr>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La météorologie de la Guinée Bissau a subit, depuis 2011, une mutation institutionnelle très importante, en passant par la Direction Générale en Institut National, suite à l’application des recommandations formulées dans le premier plan stratégique </a:t>
            </a:r>
            <a:r>
              <a:rPr b="0" lang="pt-PT" sz="1400" spc="-1" strike="noStrike">
                <a:solidFill>
                  <a:srgbClr val="000000"/>
                </a:solidFill>
                <a:latin typeface="Arial"/>
                <a:ea typeface="Arial"/>
              </a:rPr>
              <a:t>de l’Institution. </a:t>
            </a:r>
            <a:r>
              <a:rPr b="0" lang="fr-FR" sz="1400" spc="-1" strike="noStrike">
                <a:solidFill>
                  <a:srgbClr val="000000"/>
                </a:solidFill>
                <a:latin typeface="Arial"/>
                <a:ea typeface="Arial"/>
              </a:rPr>
              <a:t>Cette mutation qui tarde à être effective devait la permettre de dispose d’une autonomie administrative et technique.</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Cependant, du fait de l’instabilité politique que connait le pays, dans la pratique la météorologie continue de fonctionner en tant que la Direction Générale. Aucune amélioration n’est constatée dans son fonctionnement depuis sa transformation. Cette situation constitue un véritable handicap pour le développement  dans touts les aspects de la météorologie.</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En dehors de cette réalisation la météorologie participe et coordonne au niveau national, de manière très timide aux activités du Groupe de Travail Pluridisciplinair (GTP), mis en place par le centre Régional  AGHRYMET à Niamey</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LA MISSION DU L’INM</a:t>
            </a:r>
            <a:endParaRPr b="0" lang="en-US" sz="2800" spc="-1" strike="noStrike">
              <a:solidFill>
                <a:srgbClr val="000000"/>
              </a:solidFill>
              <a:latin typeface="Calibri"/>
            </a:endParaRPr>
          </a:p>
        </p:txBody>
      </p:sp>
      <p:sp>
        <p:nvSpPr>
          <p:cNvPr id="108" name=""/>
          <p:cNvSpPr txBox="1"/>
          <p:nvPr/>
        </p:nvSpPr>
        <p:spPr>
          <a:xfrm>
            <a:off x="457200" y="1276200"/>
            <a:ext cx="8229600" cy="48103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mission fondamentale de l’INM est l’observation et la prévision de l’état de l’atmosphère et de l’océan superficiel pour la prestation des services météorologiques </a:t>
            </a:r>
            <a:r>
              <a:rPr b="0" lang="pt-PT" sz="1800" spc="-1" strike="noStrike">
                <a:solidFill>
                  <a:srgbClr val="000000"/>
                </a:solidFill>
                <a:latin typeface="Arial"/>
                <a:ea typeface="Arial"/>
              </a:rPr>
              <a:t>qui permett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sauvegarde des personnes et des bien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a protection de l’environnem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au développement durable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cquisition de données météorologiques, climatologiques et environnementales connexes sur de longues période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exécution des engagements internationaux e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à la coopération internation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E MANDAT</a:t>
            </a:r>
            <a:endParaRPr b="0" lang="en-US" sz="4400" spc="-1" strike="noStrike">
              <a:solidFill>
                <a:srgbClr val="000000"/>
              </a:solidFill>
              <a:latin typeface="Calibri"/>
            </a:endParaRPr>
          </a:p>
        </p:txBody>
      </p:sp>
      <p:sp>
        <p:nvSpPr>
          <p:cNvPr id="110" name=""/>
          <p:cNvSpPr txBox="1"/>
          <p:nvPr/>
        </p:nvSpPr>
        <p:spPr>
          <a:xfrm>
            <a:off x="457200" y="952200"/>
            <a:ext cx="8229600" cy="5133960"/>
          </a:xfrm>
          <a:prstGeom prst="rect">
            <a:avLst/>
          </a:prstGeom>
          <a:noFill/>
          <a:ln w="0">
            <a:noFill/>
          </a:ln>
        </p:spPr>
        <p:txBody>
          <a:bodyPr anchor="t">
            <a:normAutofit/>
          </a:bodyPr>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Le mandat conféré à l’INM par l’Etat de la Guinée Bissau dans le bulletin officiel numéro 32 du 11 Août 2011 peut être classe en deux catégories :</a:t>
            </a: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internationales et régionales de</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500" spc="-1" strike="noStrike">
                <a:solidFill>
                  <a:srgbClr val="000000"/>
                </a:solidFill>
                <a:latin typeface="Arial"/>
                <a:ea typeface="Arial"/>
              </a:rPr>
              <a:t>             </a:t>
            </a:r>
            <a:r>
              <a:rPr b="0" lang="pt-PT" sz="1500" spc="-1" strike="noStrike">
                <a:solidFill>
                  <a:srgbClr val="000000"/>
                </a:solidFill>
                <a:latin typeface="Arial"/>
                <a:ea typeface="Arial"/>
              </a:rPr>
              <a:t>l’Etat e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nationales de l’Eta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14:56:00Z</dcterms:created>
  <dc:creator>Timo Proescholdt</dc:creator>
  <dc:description/>
  <dc:language>en-US</dc:language>
  <cp:lastModifiedBy>CHERNO</cp:lastModifiedBy>
  <dcterms:modified xsi:type="dcterms:W3CDTF">2019-04-10T09:41:21Z</dcterms:modified>
  <cp:revision>252</cp:revision>
  <dc:subject/>
  <dc:title>PowerPoint Presentation</dc:title>
</cp:coreProperties>
</file>